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72288" cy="100615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ABFE8-BBC7-4F51-9C4D-CF8BA170E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E1E0E-4201-4696-A502-1D6A1AAAF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C59EF-B327-4432-B1DE-80C2F9BAF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E38C0-B95A-4B29-9287-BA57C0187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7F79B-7650-4C8B-8F4A-48A0C26BC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FB622-1589-467D-BD9B-182B7129C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F7AE7-7EE6-4A89-BB4B-1C9EA65C6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8ED98-ADDC-41E8-9DBB-BCB19FEEF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EADEE-EFA2-4B50-8389-69F1894CF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37A38-95C2-4D21-A9C4-1AE3197A2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9E9AE-5937-46E0-859E-8C454B722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4FF68-4207-40AA-B5B1-334471D47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9011D560-8566-4FAE-986E-2C8FAFFA12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95280" y="622440"/>
            <a:ext cx="4343400" cy="433692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4654440"/>
            <a:ext cx="4343400" cy="3049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Black"/>
              </a:rPr>
              <a:t>04/2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295280" y="2344680"/>
            <a:ext cx="4343400" cy="188748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PROJEKT „837“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MORAVIAN SCIENCE CENTRE BRN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STATICKÉ VÝPOČTY STŘECH PAVILONU „D“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mic Sans MS"/>
              </a:rPr>
              <a:t>PROVĚŘENÍ NÁVRHU SKLADBY STŘECH NAVRHOVANÉ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mic Sans MS"/>
              </a:rPr>
              <a:t>V ČÁSTI ARCHITEKTONICKO-STAVEBNÍHO REŠENÍ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BRNO, 04/2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474920" y="903240"/>
            <a:ext cx="1809720" cy="9050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286440" y="902520"/>
            <a:ext cx="21697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Times New Roman CE"/>
              </a:rPr>
              <a:t>KŘENOVÁ 42, 602 00 BR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 CE"/>
              </a:rPr>
              <a:t>Kancelář: Bezručova 17a, 602 00 Br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 CE"/>
              </a:rPr>
              <a:t>T/F/Z - +420 543 215 23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 CE"/>
              </a:rPr>
              <a:t>bestex@bestex.cz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295280" y="5313240"/>
            <a:ext cx="4343400" cy="433728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295280" y="9345600"/>
            <a:ext cx="4343400" cy="3049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Black"/>
              </a:rPr>
              <a:t>04/2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295280" y="7035840"/>
            <a:ext cx="4343400" cy="188748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PROJEKT „837“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MORAVIAN SCIENCE CENTRE BRN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STATICKÉ VÝPOČTY STŘECH PAVILONU „D“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mic Sans MS"/>
              </a:rPr>
              <a:t>PROVĚŘENÍ NÁVRHU SKLADBY STŘECH NAVRHOVANÉ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mic Sans MS"/>
              </a:rPr>
              <a:t>V ČÁSTI ARCHITEKTONICKO-STAVEBNÍHO REŠENÍ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BRNO, 04/2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1474920" y="5594400"/>
            <a:ext cx="1809720" cy="9046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286440" y="5593680"/>
            <a:ext cx="21697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Times New Roman CE"/>
              </a:rPr>
              <a:t>KŘENOVÁ 42, 602 00 BR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 CE"/>
              </a:rPr>
              <a:t>Kancelář: Bezručova 17a, 602 00 Br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 CE"/>
              </a:rPr>
              <a:t>T/F/Z - +420 543 215 23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 CE"/>
              </a:rPr>
              <a:t>bestex@bestex.cz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4-04T12:09:04Z</dcterms:created>
  <dc:creator>Libuna</dc:creator>
  <dc:description/>
  <dc:language>en-US</dc:language>
  <cp:lastModifiedBy>Libor Švaříček</cp:lastModifiedBy>
  <cp:lastPrinted>2000-06-07T12:15:56Z</cp:lastPrinted>
  <dcterms:modified xsi:type="dcterms:W3CDTF">2011-04-21T10:35:58Z</dcterms:modified>
  <cp:revision>144</cp:revision>
  <dc:subject/>
  <dc:title>bez titulu</dc:title>
</cp:coreProperties>
</file>